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378AAB-FDD5-490E-AD8F-84CB9C760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A08F8A-D283-44D8-9982-49A144338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brief notes througho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azon.com/Boy-Who-Harnessed-Wind-Electricity/dp/0061730327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illiamkamkwamba.typepad.com/williamkamkwamba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illiamkamkwamba.typepad.com/williamkamkwamba/2008/03/bringing-an-olp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ffee.geek.nz/olpc-viewfinders-made-reprap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makezine.com/archive/2009/10/olpc_ox_controls_reprap_prints_ox_p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lickr.com/photos/curiouslee/sets/7215762245669364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n-disk.com/product_info.php/products_id/8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tedxmidatlantic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lickr.com/photos/curiouslee/397558753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B607-5823-4C8D-B951-C5D8B3C99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657B-95B7-4E6F-9D23-08B108D0C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9AC2-7D0F-47FD-9364-5506D9F43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D73B-F1F2-4DDC-8C50-847C4293D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6A01E-689B-4B33-9329-D603C31C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BF2BA-E19B-456F-AC48-2802003D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1A1BF-CA13-4726-99AF-051409E3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71483-0BA3-4958-B8E8-F41FBC43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AF5EE-A9EE-4718-B8A5-7F6D2BE7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A3B29-6C76-441E-B662-B2F0939D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4447F-D206-43B7-9571-51A72842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6309-E8B9-4DC1-9FEF-12E2B7F80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ADA91-19E8-4A1D-902B-B1C9D6CD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F0662-7F2A-494E-845C-91C9B5F4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4BEE2-34FE-4809-89C6-2953ACFD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6B812-9492-4410-9DC5-A695EAB2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A0C67-A68E-47F1-87CE-35AEE769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8DF6-BF63-4E8E-9FC3-CEFF4EF2D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6089-5C6B-41BB-8DDF-AF2D088F0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3FAC-ADA1-4B20-B331-BFE18D55F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5DCA-409C-4E68-A8D2-4D22CB16B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BD0B-A6A3-442A-911D-741DCEA81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EABF-9D38-4952-B460-4C886E4AB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D172-5EB3-4A3D-B147-2A4948560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" y="1066680"/>
            <a:ext cx="9143640" cy="5435640"/>
            <a:chOff x="360" y="106668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28440" y="1066680"/>
              <a:ext cx="9115560" cy="5435640"/>
              <a:chOff x="28440" y="106668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17600" y="141588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3440" y="141588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8440" y="134136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0880" y="146196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0240" y="120636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08720" y="106668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1080" y="118116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2640" y="133812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3480" y="286848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2760" y="516240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7480" y="110808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1320" y="530856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5960" y="345420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" y="3284280"/>
              <a:ext cx="2193840" cy="2694240"/>
              <a:chOff x="360" y="328428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5760" y="580788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49680" y="58028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6840" y="57952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29040" y="580932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5840" y="58172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38320" y="5815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1880" y="58125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3120" y="57855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4160" y="57902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6640" y="57981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6240" y="58060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6120" y="57218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68600" y="572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0720" y="5752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3200" y="5756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1560" y="56156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3680" y="5644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57960" y="5661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09720" y="5682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5400" y="5490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2560" y="55155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79720" y="554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5440" y="557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1600" y="5338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3440" y="53683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87800" y="53996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6400" y="5428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26840" y="51573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598040" y="5195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68160" y="52308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4680" y="52704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3280" y="4970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3120" y="5006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0800" y="5047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5880" y="5081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56880" y="47638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1400" y="48034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28800" y="48448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07560" y="4889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18800" y="4559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3320" y="46000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1880" y="46396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4240" y="46814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1760" y="43509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3200" y="43923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3200" y="44305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1760" y="447156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3040" y="4157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2040" y="41907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6720" y="42289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1400" y="4271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6080" y="39729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3360" y="401292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5960" y="4049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1800" y="408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4560" y="38163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4720" y="38433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88840" y="3878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09360" y="3905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6320" y="3673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39800" y="370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3560" y="3730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2360" y="37555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8240" y="371304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7760" y="462564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2880" y="463860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37480" y="35690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3840" y="358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1280" y="36079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2960" y="3627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48120" y="3494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0960" y="3507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6240" y="35179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6200" y="353736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27800" y="34470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1720" y="34560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19600" y="34639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67480" y="3470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5960" y="34448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3480" y="34419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1360" y="34369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0320" y="34390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0880" y="3475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08760" y="34675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0960" y="34614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0280" y="34531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4360" y="3545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3680" y="3529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19760" y="3513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0800" y="34963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5400" y="3690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99000" y="363852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3280" y="361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6120" y="359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5440" y="35766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-3240" y="4982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07120" y="51656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1480" y="408600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08080" y="417024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3560" y="585900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67680" y="585900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69160" y="582408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4760" y="57513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59840" y="56415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7000" y="549864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5360" y="53305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31680" y="36223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2400" y="35064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6320" y="33969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4280" y="339048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0360" y="343116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6640" y="35010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58800" y="360828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2800" y="374760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17640" y="39114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898280" y="409716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29960" y="429552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2040" y="451152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3800" y="494172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49160" y="514512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6040" y="462276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000" y="396540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0840" y="385272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1360" y="520380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88960" y="406080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2360" y="395604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920" y="573552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920" y="370044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20" y="574524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5160" y="472608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57200" y="343188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7440" y="531648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78480" y="528048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9720" y="361800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6560" y="448092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Num" idx="1"/>
          </p:nvPr>
        </p:nvSpPr>
        <p:spPr>
          <a:xfrm>
            <a:off x="8000640" y="6400440"/>
            <a:ext cx="8413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864A-EEB7-438A-A83C-450DC3A84F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E0E0-8C22-4F4A-9E4A-3BBF3D5D73A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ee@aarp.or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mills, XO Reprap, Cambridge &amp; XtraOrdina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990360" y="49525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ke 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1066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llaudet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rday, October 17,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2954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olpc_lc_dc_logo_one_line" descr=""/>
          <p:cNvPicPr/>
          <p:nvPr/>
        </p:nvPicPr>
        <p:blipFill>
          <a:blip r:embed="rId1"/>
          <a:srcRect l="4687" t="28007" r="9376" b="32004"/>
          <a:stretch/>
        </p:blipFill>
        <p:spPr>
          <a:xfrm>
            <a:off x="1905120" y="0"/>
            <a:ext cx="533376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r more 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mail Mike Lee at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Arial"/>
                <a:hlinkClick r:id="rId1"/>
              </a:rPr>
              <a:t>curiouslee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3250-625D-48DC-AFBE-FBB63DC48C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320" y="1447560"/>
            <a:ext cx="8613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favorite recent read: The Boy Who Harnessed The W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c Olliver’s Reprap controlled by an XO-1 to print viewfin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 from Camb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 Lab S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isk XtraOrdinary SD card for the XO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AC9F-7569-496D-9D81-B161D18215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illiam Kamkwamba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Boy Who Harnessed The Wi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william_kamkwamba_500x_windguy" descr=""/>
          <p:cNvPicPr/>
          <p:nvPr/>
        </p:nvPicPr>
        <p:blipFill>
          <a:blip r:embed="rId1"/>
          <a:stretch/>
        </p:blipFill>
        <p:spPr>
          <a:xfrm>
            <a:off x="2519280" y="2286000"/>
            <a:ext cx="4103640" cy="4572000"/>
          </a:xfrm>
          <a:prstGeom prst="rect">
            <a:avLst/>
          </a:prstGeom>
          <a:ln w="0">
            <a:noFill/>
          </a:ln>
        </p:spPr>
      </p:pic>
      <p:pic>
        <p:nvPicPr>
          <p:cNvPr id="398" name="william-kamkwamba-book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2724120" cy="4114800"/>
          </a:xfrm>
          <a:prstGeom prst="rect">
            <a:avLst/>
          </a:prstGeom>
          <a:ln w="0">
            <a:noFill/>
          </a:ln>
        </p:spPr>
      </p:pic>
      <p:pic>
        <p:nvPicPr>
          <p:cNvPr id="399" name="william-kamkwamba-earlier-windmill" descr=""/>
          <p:cNvPicPr/>
          <p:nvPr/>
        </p:nvPicPr>
        <p:blipFill>
          <a:blip r:embed="rId3"/>
          <a:stretch/>
        </p:blipFill>
        <p:spPr>
          <a:xfrm>
            <a:off x="6629400" y="1657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400" name="meal_kamb" descr=""/>
          <p:cNvPicPr/>
          <p:nvPr/>
        </p:nvPicPr>
        <p:blipFill>
          <a:blip r:embed="rId4"/>
          <a:stretch/>
        </p:blipFill>
        <p:spPr>
          <a:xfrm>
            <a:off x="6629400" y="38862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5BD0-96D2-4C89-AC20-47177143D1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liam’s Blo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2" name="william_kamkwamba_blog_olpc_xo" descr=""/>
          <p:cNvPicPr/>
          <p:nvPr/>
        </p:nvPicPr>
        <p:blipFill>
          <a:blip r:embed="rId1"/>
          <a:stretch/>
        </p:blipFill>
        <p:spPr>
          <a:xfrm>
            <a:off x="1424160" y="0"/>
            <a:ext cx="62956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90D5-3298-461E-B322-B4B7D15C3E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Vic Olliver’s Reprap-made Viewfinder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4" name="vic_olliver_xo_viewfinders" descr=""/>
          <p:cNvPicPr/>
          <p:nvPr/>
        </p:nvPicPr>
        <p:blipFill>
          <a:blip r:embed="rId1"/>
          <a:srcRect l="7200" t="3198" r="2801" b="5601"/>
          <a:stretch/>
        </p:blipFill>
        <p:spPr>
          <a:xfrm>
            <a:off x="152280" y="1257480"/>
            <a:ext cx="5715000" cy="4343400"/>
          </a:xfrm>
          <a:prstGeom prst="rect">
            <a:avLst/>
          </a:prstGeom>
          <a:ln w="0">
            <a:noFill/>
          </a:ln>
        </p:spPr>
      </p:pic>
      <p:pic>
        <p:nvPicPr>
          <p:cNvPr id="405" name="reprap_olpc_viewfinder_video" descr=""/>
          <p:cNvPicPr/>
          <p:nvPr/>
        </p:nvPicPr>
        <p:blipFill>
          <a:blip r:embed="rId2"/>
          <a:stretch/>
        </p:blipFill>
        <p:spPr>
          <a:xfrm>
            <a:off x="5943600" y="4011480"/>
            <a:ext cx="3200400" cy="28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7368-C491-41BF-A66F-5EEC0FDFB2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s from Cambrid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218960"/>
            <a:ext cx="853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PCorps Students at 1CC last week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for jumpstart event in NYC mid-Nov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push to production of XO-1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t in Walter Bender’s of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d meld with Caroline M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1210-06B9-4750-BFA3-27CBEFF7ED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dia Lab Sigh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9" name="bernoulli_wing" descr=""/>
          <p:cNvPicPr/>
          <p:nvPr/>
        </p:nvPicPr>
        <p:blipFill>
          <a:blip r:embed="rId1"/>
          <a:stretch/>
        </p:blipFill>
        <p:spPr>
          <a:xfrm>
            <a:off x="4572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10" name="media_lab_extension" descr=""/>
          <p:cNvPicPr/>
          <p:nvPr/>
        </p:nvPicPr>
        <p:blipFill>
          <a:blip r:embed="rId2"/>
          <a:stretch/>
        </p:blipFill>
        <p:spPr>
          <a:xfrm>
            <a:off x="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3499-E39C-42C1-9E9C-271CE35174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044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disk XtraOrdinary SD Card OS for the X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2" name="ondisk_XtraOrdinary_on_XO" descr=""/>
          <p:cNvPicPr/>
          <p:nvPr/>
        </p:nvPicPr>
        <p:blipFill>
          <a:blip r:embed="rId1"/>
          <a:stretch/>
        </p:blipFill>
        <p:spPr>
          <a:xfrm>
            <a:off x="0" y="915840"/>
            <a:ext cx="6781680" cy="5088240"/>
          </a:xfrm>
          <a:prstGeom prst="rect">
            <a:avLst/>
          </a:prstGeom>
          <a:ln w="0">
            <a:noFill/>
          </a:ln>
        </p:spPr>
      </p:pic>
      <p:pic>
        <p:nvPicPr>
          <p:cNvPr id="413" name="ondisk_sd_card" descr=""/>
          <p:cNvPicPr/>
          <p:nvPr/>
        </p:nvPicPr>
        <p:blipFill>
          <a:blip r:embed="rId2"/>
          <a:stretch/>
        </p:blipFill>
        <p:spPr>
          <a:xfrm>
            <a:off x="5562720" y="417204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26F5-15AD-47B5-AF7C-487C34BA63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pcom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320" y="1447560"/>
            <a:ext cx="8613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s On After School, Fairfax VA, October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Dx Mid-Atlantic, Novemb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PC NYC Event, Tentatively November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OLPC Learning Club meeting, ACC, November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olpc_nyc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BA3A-BF9E-4591-8F20-9F1C649986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21:05:25Z</dcterms:created>
  <dc:creator>mik le</dc:creator>
  <dc:description/>
  <dc:language>en-US</dc:language>
  <cp:lastModifiedBy>Mike</cp:lastModifiedBy>
  <cp:lastPrinted>2005-01-24T07:03:34Z</cp:lastPrinted>
  <dcterms:modified xsi:type="dcterms:W3CDTF">2009-10-17T02:52:31Z</dcterms:modified>
  <cp:revision>164</cp:revision>
  <dc:subject/>
  <dc:title>Mapping the Current State of Web Sites</dc:title>
</cp:coreProperties>
</file>